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5601-BDB0-4940-A74E-EE3996C03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8126-5599-4B6A-826D-F16C77236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D71A-B7CC-4D4B-BACB-F36AC266E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11F3-4CAA-4970-A7FE-2FB7E7923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A2B03-DB06-4737-B3B2-CDA8200B4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FF3C-BBF4-4635-A566-260893A2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C3B3-090C-4F57-A8E8-61B67760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B76D-62B8-400A-80C5-66CB9E50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E5F9-69DA-4E1A-8262-0DAF2EBC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FDE2-2797-4AC5-B006-2F5D2DB8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501C-913D-4A2D-8D8F-51583BDD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4A9C-AB65-44B7-9D2A-E01E8482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58BB-5550-434F-A7CD-620FC692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7E3FF-677B-4E79-A285-2293E49E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C53D-9E8B-447D-A26F-FA9AB1EF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20071-5FD5-43AD-9680-F6798DD16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FD12-E431-4F7D-9C95-FD2E1BAE9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BDDDB-7D8E-46D1-96DA-B59A92E26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72FDF-1475-4C3F-8B72-120213C5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D5A95-54A5-4DF1-972F-D52D6E51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9333B-36D1-4086-9E70-9E02FAC9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2E27D-DBFF-4D8F-90E8-E3181073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2C26-6A03-4EDD-9071-1DFD69E6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A38BE-8BB8-42AE-8E9E-754FD300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A4C7C-0373-4513-86B1-A7798759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38DFD-1B75-461E-9349-3A2908FC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AC37F-4EBD-49DE-8916-89F6B90B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1DCEC-CD5E-4ED6-835D-C353683C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48F35-20A6-4C12-BFD3-8E5A1F83B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D600B-F625-4AD3-9166-A5F85B510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36B35-40EA-4B5F-8675-5932B0CB3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1C5F6-3C16-408A-810E-AE622162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C3FCF-D190-4E00-9A25-8756E824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EB9C-A1C6-4268-A5A2-34D443EC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BE925-A8CC-45D7-B7F9-8094F3F5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71FE1-C89E-4BA0-AC3A-9B6938C2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E5353-6C12-47D3-8373-B8A59CB9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3A2FD-63D5-4761-BC44-2397F7ED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9C703-681C-4F9F-84D9-A4E7C14B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EE159-3C34-4C50-A264-A2D37FD8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60C29-1385-4BC9-9ED5-A57D68E8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ECA1D-5011-45CD-B5C0-C5BD7CBBF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ABE4C-4503-4EEE-994D-486E32DD9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00C07-A01E-403B-9CD8-5F7B93BE4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F138-C984-4293-9E20-A90B7175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94663-C9CF-4466-90E1-8FA7F7C8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E0910-57A6-4337-8EF5-EA9F4D4A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14A7A-2665-4FAC-9CFD-5CEFEAAA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38BE4-26BD-4855-8FB0-90DA0E74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EE344-298F-4205-894C-A8E8BE79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EE409-26C4-4389-82C0-A24E6EA0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4A388-BC3E-4803-973B-0D9C17FC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B4FB6-C73B-467E-B99B-9104B041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AAEF8-4610-4298-8C34-68182655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C1566-C5B7-47A4-8DF6-A6D6F8A2F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9F92-876D-428F-87AE-F7F41C50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460EA-B904-49B1-9AC1-B074A171E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33FCE-939A-4C38-880B-F01387184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2B9DF-494C-4378-B451-FF7A32E9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37C66-8065-452E-9EE5-C68BE43B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B4572-5C0C-42C3-87B1-540D7442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CFE04-4C76-42F4-973C-64A8AEF1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C1621-1711-4522-8393-B0217355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6F4C9-C4CB-44F1-A47E-D0C578FF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B1E0D-533A-4456-AB90-C76DF156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412BA-1CC2-4148-A921-E68CB248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72B5-F469-4B54-B0A0-10752402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E5C7A-1C2E-45B4-9ECF-E61ED13C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E87E1-A728-4C1F-8915-8D2DE735D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F6FF6-DA5C-4F87-B4FF-6A45E44CA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B2E2-DBAA-4B6F-8462-11336E54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EAB1-BA34-41A3-9958-F6D99638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000" spc="-1" strike="noStrike">
                <a:solidFill>
                  <a:srgbClr val="9b9a98"/>
                </a:solidFill>
                <a:latin typeface="Times New Roman"/>
                <a:ea typeface="LilyUP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b9a98"/>
                </a:solidFill>
                <a:latin typeface="Times New Roman"/>
                <a:ea typeface="LilyUP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  <a:ea typeface="LilyUP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9773-9051-43D7-B6A8-25090CECAC55}" type="slidenum">
              <a:rPr b="0" lang="en-US" sz="1000" spc="-1" strike="noStrike">
                <a:solidFill>
                  <a:srgbClr val="9b9a98"/>
                </a:solidFill>
                <a:latin typeface="Times New Roman"/>
                <a:ea typeface="LilyUP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000" spc="-1" strike="noStrike">
                <a:solidFill>
                  <a:srgbClr val="9b9a98"/>
                </a:solidFill>
                <a:latin typeface="Times New Roman"/>
                <a:ea typeface="LilyUP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b9a98"/>
                </a:solidFill>
                <a:latin typeface="Times New Roman"/>
                <a:ea typeface="LilyUP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  <a:ea typeface="LilyUP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5CEA-BD41-46D2-8700-4BFAD2B42F0E}" type="slidenum">
              <a:rPr b="0" lang="en-US" sz="1000" spc="-1" strike="noStrike">
                <a:solidFill>
                  <a:srgbClr val="9b9a98"/>
                </a:solidFill>
                <a:latin typeface="Times New Roman"/>
                <a:ea typeface="LilyUP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8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000" spc="-1" strike="noStrike">
                <a:solidFill>
                  <a:srgbClr val="9b9a98"/>
                </a:solidFill>
                <a:latin typeface="Times New Roman"/>
                <a:ea typeface="LilyUP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b9a98"/>
                </a:solidFill>
                <a:latin typeface="Times New Roman"/>
                <a:ea typeface="LilyUP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  <a:ea typeface="LilyUP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6E55-ED02-4911-BCA4-FAAD3CBEF211}" type="slidenum">
              <a:rPr b="0" lang="en-US" sz="1000" spc="-1" strike="noStrike">
                <a:solidFill>
                  <a:srgbClr val="9b9a98"/>
                </a:solidFill>
                <a:latin typeface="Times New Roman"/>
                <a:ea typeface="LilyUP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000" spc="-1" strike="noStrike">
                <a:solidFill>
                  <a:srgbClr val="9b9a98"/>
                </a:solidFill>
                <a:latin typeface="Times New Roman"/>
                <a:ea typeface="LilyUP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b9a98"/>
                </a:solidFill>
                <a:latin typeface="Times New Roman"/>
                <a:ea typeface="LilyUP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  <a:ea typeface="LilyUP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9E6F-C56F-478C-8C2A-FA24163ADC97}" type="slidenum">
              <a:rPr b="0" lang="en-US" sz="1000" spc="-1" strike="noStrike">
                <a:solidFill>
                  <a:srgbClr val="9b9a98"/>
                </a:solidFill>
                <a:latin typeface="Times New Roman"/>
                <a:ea typeface="LilyUP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000" spc="-1" strike="noStrike">
                <a:solidFill>
                  <a:srgbClr val="9b9a98"/>
                </a:solidFill>
                <a:latin typeface="Times New Roman"/>
                <a:ea typeface="LilyUP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b9a98"/>
                </a:solidFill>
                <a:latin typeface="Times New Roman"/>
                <a:ea typeface="LilyUP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  <a:ea typeface="LilyUP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4B10-E603-4137-9F46-75D2AAB97754}" type="slidenum">
              <a:rPr b="0" lang="en-US" sz="1000" spc="-1" strike="noStrike">
                <a:solidFill>
                  <a:srgbClr val="9b9a98"/>
                </a:solidFill>
                <a:latin typeface="Times New Roman"/>
                <a:ea typeface="LilyUP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000" spc="-1" strike="noStrike">
                <a:solidFill>
                  <a:srgbClr val="9b9a98"/>
                </a:solidFill>
                <a:latin typeface="Times New Roman"/>
                <a:ea typeface="LilyUP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b9a98"/>
                </a:solidFill>
                <a:latin typeface="Times New Roman"/>
                <a:ea typeface="LilyUP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  <a:ea typeface="LilyUP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98BE-7166-4719-9C24-9B517556DDAB}" type="slidenum">
              <a:rPr b="0" lang="en-US" sz="1000" spc="-1" strike="noStrike">
                <a:solidFill>
                  <a:srgbClr val="9b9a98"/>
                </a:solidFill>
                <a:latin typeface="Times New Roman"/>
                <a:ea typeface="LilyUP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0" y="1139760"/>
            <a:ext cx="8961480" cy="44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ff33"/>
                </a:solidFill>
                <a:latin typeface="Franklin Gothic Book"/>
              </a:rPr>
              <a:t>Good practice IQ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2" name="Content Placeholder 2"/>
          <p:cNvSpPr/>
          <p:nvPr/>
        </p:nvSpPr>
        <p:spPr>
          <a:xfrm>
            <a:off x="457200" y="1600200"/>
            <a:ext cx="825804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การบูรณาการตัวชี้วัด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(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กพร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.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สมศ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.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สกอ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.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และอื่นๆ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การจัดทำ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Action Plan OFI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(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แผนการนำผลการประเมินคุณภาพไปใช้ในการพัฒนาคุณภาพอย่างต่อเนื่อง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การปรับโครงสร้างคณะกรรมการตรวจประเมินคุณภาพภายในจากเดิมเป็นคณาจารย์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/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ผู้เชี่ยวชาญ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/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ผู้ทรงคุณวุฒิ  กำหนด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(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เชิญชวน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)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ผู้บริหาร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/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คณบดี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/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รองคณบดี มาร่วมเป็นคณะกรรมการตรวจประเมินคุณภาพภายใ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การค้นหาแนวทางการปฏิบัติที่ดี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2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แนวทา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ค้นหาจากผลการตรวจประเมิ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คณะ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/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หน่ว่ยงานนำเสน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แต่งตั้งคณะกรรมการ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Site Visit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และตัดสินผลการให้รางวั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600" spc="-1" strike="noStrike">
                <a:solidFill>
                  <a:srgbClr val="99ff33"/>
                </a:solidFill>
                <a:latin typeface="Tahoma"/>
                <a:cs typeface="Tahoma"/>
              </a:rPr>
              <a:t>รายชื่อสมาชิกกลุ่ม </a:t>
            </a:r>
            <a:r>
              <a:rPr b="1" lang="en-US" sz="4600" spc="-1" strike="noStrike">
                <a:solidFill>
                  <a:srgbClr val="99ff33"/>
                </a:solidFill>
                <a:latin typeface="Tahoma"/>
                <a:ea typeface="Tahoma"/>
              </a:rPr>
              <a:t>5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2840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ดร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นิสาพร  วัฒนศัพท์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มหาวิทยาลัยนเรศวร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ประธา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นางจิระประภา  ศรีปัตา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มหาวิทยาลัยนเรศวร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อาจารย์ชาญชัย  รัตนวิบูลย์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มหาวิทยาลัยนเรศวร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นางจิระประภา  ศรีปัตตา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มหาวิทยาลัยนเรศวร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อาจารย์มงคล  มาลยารม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มหาวิทยาลัยสงขลานครินทร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นางสาวอัจฉราวรรณ  ช่วยเนียม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มหาวิทยาลัยสงขลานครินทร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นายสุริยะเ  สอนสุระ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มหาวิทยาลัยมหาสารครา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นายอวยพร  เรืองศรี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มหาวิทยาลัยวลัยลักษณ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อาจารย์ศักดิ์พงศ์  หอมหวน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มหาวิทยาลัยราชภัฎมหาสารครา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นายบัณฑิต  สุวรรณโท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มหาวิทยาลัยราชภัฎมหาสารครา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57160" y="285480"/>
            <a:ext cx="7467840" cy="114300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600" spc="-1" strike="noStrike">
                <a:solidFill>
                  <a:srgbClr val="99ff33"/>
                </a:solidFill>
                <a:latin typeface="Tahoma"/>
                <a:cs typeface="Tahoma"/>
              </a:rPr>
              <a:t>การประเมินการสอน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8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300" spc="-1" strike="noStrike">
                <a:solidFill>
                  <a:srgbClr val="ff7c80"/>
                </a:solidFill>
                <a:latin typeface="Tahoma"/>
                <a:cs typeface="Tahoma"/>
              </a:rPr>
              <a:t>รูปแบบการประเมินการสอน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000" spc="-1" strike="noStrike">
                <a:solidFill>
                  <a:srgbClr val="ffffff"/>
                </a:solidFill>
                <a:latin typeface="Tahoma"/>
                <a:cs typeface="Tahoma"/>
              </a:rPr>
              <a:t>มีระบบการประเมินออนไลน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000" spc="-1" strike="noStrike">
                <a:solidFill>
                  <a:srgbClr val="ffffff"/>
                </a:solidFill>
                <a:latin typeface="Tahoma"/>
                <a:cs typeface="Tahoma"/>
              </a:rPr>
              <a:t>มีระบบการประเมินด้วยแบบสอบถา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000" spc="-1" strike="noStrike">
                <a:solidFill>
                  <a:srgbClr val="ffffff"/>
                </a:solidFill>
                <a:latin typeface="Tahoma"/>
                <a:cs typeface="Tahoma"/>
              </a:rPr>
              <a:t>ดำเนินการควบคู่กันทั้งการประเมินออนไลน์และแบบสอบถา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8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300" spc="-1" strike="noStrike">
                <a:solidFill>
                  <a:srgbClr val="ff7c80"/>
                </a:solidFill>
                <a:latin typeface="Tahoma"/>
                <a:cs typeface="Tahoma"/>
              </a:rPr>
              <a:t>ระยะเวลาประเมิน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000" spc="-1" strike="noStrike">
                <a:solidFill>
                  <a:srgbClr val="ffffff"/>
                </a:solidFill>
                <a:latin typeface="Tahoma"/>
                <a:cs typeface="Tahoma"/>
              </a:rPr>
              <a:t>รายเทอ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000" spc="-1" strike="noStrike">
                <a:solidFill>
                  <a:srgbClr val="ffffff"/>
                </a:solidFill>
                <a:latin typeface="Tahoma"/>
                <a:cs typeface="Tahoma"/>
              </a:rPr>
              <a:t>รายวิช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000" spc="-1" strike="noStrike">
                <a:solidFill>
                  <a:srgbClr val="ffffff"/>
                </a:solidFill>
                <a:latin typeface="Tahoma"/>
                <a:cs typeface="Tahoma"/>
              </a:rPr>
              <a:t>ประเมินอาจารย์รายบุคค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06440" indent="-37116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7c80"/>
                </a:solidFill>
                <a:latin typeface="Tahoma"/>
                <a:cs typeface="Tahoma"/>
              </a:rPr>
              <a:t>กลไลการกระตุ้นให้นักศึกษาประเมิ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0200" indent="-26460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ประชาสัมพันธ์ด้วยวิธีการต่าง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0200" indent="-26460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บังคับให้กรอกแบบประเมินโดยผูกโยงกับการแจ้งเกรด หากนักศึกษายังไม่ประเมินจะได้รับแจ้งผลการเรียนช้าออกไ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0200" indent="-26460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การชี้แจงผ่าน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E-mail 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กรณีที่ยังไม่เข้าประเมินการสอ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0200" indent="-26460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ประเมินหลังจบการสอนทันที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ให้เวลา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15 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นาที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0200" indent="-26460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จัดเตรียม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Computer 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ให้พร้อมสำหรับการประเมินออนไลน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0200" indent="-26460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จัดตั้งเครือข่ายนักศึกษาเป็นยุวทูตการประกันคุณภาพ เพื่อเชิญชวนให้เพื่อนๆนักศึกษาเข้าไปประเมินออนไลน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57160" y="285480"/>
            <a:ext cx="7467840" cy="114300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99ff33"/>
                </a:solidFill>
                <a:latin typeface="Tahoma"/>
                <a:cs typeface="Tahoma"/>
              </a:rPr>
              <a:t>การประเมินการสอน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37872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ff7c80"/>
                </a:solidFill>
                <a:latin typeface="Tahoma"/>
                <a:cs typeface="Tahoma"/>
              </a:rPr>
              <a:t>การนำผลการประเมินการสอนไปใช้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Tahoma"/>
                <a:cs typeface="Tahoma"/>
              </a:rPr>
              <a:t>ผ่านการประชุมกรรมการคณะ</a:t>
            </a:r>
            <a:r>
              <a:rPr b="0" lang="th-TH" sz="2600" spc="-1" strike="noStrike">
                <a:solidFill>
                  <a:srgbClr val="ffffff"/>
                </a:solidFill>
                <a:latin typeface="Tahoma"/>
                <a:ea typeface="Tahoma"/>
              </a:rPr>
              <a:t>/</a:t>
            </a:r>
            <a:r>
              <a:rPr b="0" lang="th-TH" sz="2600" spc="-1" strike="noStrike">
                <a:solidFill>
                  <a:srgbClr val="ffffff"/>
                </a:solidFill>
                <a:latin typeface="Tahoma"/>
                <a:cs typeface="Tahoma"/>
              </a:rPr>
              <a:t>ที่ประชุมผู้บริหาร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Tahoma"/>
                <a:cs typeface="Tahoma"/>
              </a:rPr>
              <a:t>เชื่อมโยงผลการประเมิน</a:t>
            </a:r>
            <a:r>
              <a:rPr b="0" lang="th-TH" sz="2600" spc="-1" strike="noStrike">
                <a:solidFill>
                  <a:srgbClr val="ffffff"/>
                </a:solidFill>
                <a:latin typeface="Tahoma"/>
                <a:ea typeface="Tahoma"/>
              </a:rPr>
              <a:t>(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  <a:ea typeface="Tahoma"/>
              </a:rPr>
              <a:t>PA) </a:t>
            </a:r>
            <a:r>
              <a:rPr b="0" lang="th-TH" sz="2600" spc="-1" strike="noStrike">
                <a:solidFill>
                  <a:srgbClr val="ffffff"/>
                </a:solidFill>
                <a:latin typeface="Tahoma"/>
                <a:cs typeface="Tahoma"/>
              </a:rPr>
              <a:t>ของอาจารย์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2600" spc="-1" strike="noStrike">
                <a:solidFill>
                  <a:srgbClr val="ffffff"/>
                </a:solidFill>
                <a:latin typeface="Tahoma"/>
                <a:cs typeface="Tahoma"/>
              </a:rPr>
              <a:t>เชื่อมโยงกับ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  <a:ea typeface="Tahoma"/>
              </a:rPr>
              <a:t>Bonus</a:t>
            </a:r>
            <a:r>
              <a:rPr b="0" lang="th-TH" sz="2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2600" spc="-1" strike="noStrike">
                <a:solidFill>
                  <a:srgbClr val="ffffff"/>
                </a:solidFill>
                <a:latin typeface="Tahoma"/>
                <a:cs typeface="Tahoma"/>
              </a:rPr>
              <a:t>และการเลื่อนขั้นเงินเดือน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Tahoma"/>
                <a:cs typeface="Tahoma"/>
              </a:rPr>
              <a:t>เปรียบเทียบผลความพึงพอใจต่อประสิทธิภาพการสอนเป็นรายวิชา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Tahoma"/>
                <a:cs typeface="Tahoma"/>
              </a:rPr>
              <a:t>นำผลไปปรับปรุงการจัดการเรียนการสอน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Tahoma"/>
                <a:cs typeface="Tahoma"/>
              </a:rPr>
              <a:t>อาจารย์แต่ละท่านสามารถเข้าไปดูผลการประเมินของตนเองได้เท่านั้นแต่คณบดีสามารถเข้าดูผลการประเมินของอาจารย์ได้ทุกคน และทุกรายวิชา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57160" y="285480"/>
            <a:ext cx="7467840" cy="114300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600" spc="-1" strike="noStrike">
                <a:solidFill>
                  <a:srgbClr val="99ff33"/>
                </a:solidFill>
                <a:latin typeface="Tahoma"/>
                <a:cs typeface="Tahoma"/>
              </a:rPr>
              <a:t>การประเมินการสอน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ff7c80"/>
                </a:solidFill>
                <a:latin typeface="Tahoma"/>
                <a:cs typeface="Tahoma"/>
              </a:rPr>
              <a:t>ข้อเสนอแน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Tahoma"/>
                <a:cs typeface="Tahoma"/>
              </a:rPr>
              <a:t>อาจจะใช้ระบบ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  <a:ea typeface="Tahoma"/>
              </a:rPr>
              <a:t>IT  </a:t>
            </a:r>
            <a:r>
              <a:rPr b="0" lang="th-TH" sz="2600" spc="-1" strike="noStrike">
                <a:solidFill>
                  <a:srgbClr val="ffffff"/>
                </a:solidFill>
                <a:latin typeface="Tahoma"/>
                <a:cs typeface="Tahoma"/>
              </a:rPr>
              <a:t>โดย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  <a:ea typeface="Tahoma"/>
              </a:rPr>
              <a:t>Lock </a:t>
            </a:r>
            <a:r>
              <a:rPr b="0" lang="th-TH" sz="2600" spc="-1" strike="noStrike">
                <a:solidFill>
                  <a:srgbClr val="ffffff"/>
                </a:solidFill>
                <a:latin typeface="Tahoma"/>
                <a:cs typeface="Tahoma"/>
              </a:rPr>
              <a:t>ระบบสำหรับนักศึกษาที่ยังไม่ประเมินการสอนให้เข้าประเมินการสอน ไม่เช่นนั้นจะไม่สามารถทำกิจกรรมผ่านเว็บไซต์ได้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Tahoma"/>
                <a:cs typeface="Tahoma"/>
              </a:rPr>
              <a:t>การกำหนดให้นักศึกษาเข้าไปประเมินการสอนแบบออนไลน์โดยผูกโยงกับการแจ้งเกรดมีข้อดีคือ นักศึกษาเข้าไปประเมินประมาณ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  <a:ea typeface="Tahoma"/>
              </a:rPr>
              <a:t>90-100</a:t>
            </a:r>
            <a:r>
              <a:rPr b="0" lang="th-TH" sz="2600" spc="-1" strike="noStrike">
                <a:solidFill>
                  <a:srgbClr val="ffffff"/>
                </a:solidFill>
                <a:latin typeface="Tahoma"/>
                <a:ea typeface="Tahoma"/>
              </a:rPr>
              <a:t>%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2600" spc="-1" strike="noStrike">
                <a:solidFill>
                  <a:srgbClr val="ffffff"/>
                </a:solidFill>
                <a:latin typeface="Tahoma"/>
                <a:cs typeface="Tahoma"/>
              </a:rPr>
              <a:t>แต่ผลการประเมินอาจจะตรงกันข้ามกับความเป็นจริง เนื่องจากนักศึกษาไม่ชอบให้มีการบังคับ และเสี่ยงต่อการถูกนักศึกษาฟ้องร้อง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57160" y="285480"/>
            <a:ext cx="7467840" cy="114300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600" spc="-1" strike="noStrike">
                <a:solidFill>
                  <a:srgbClr val="99ff33"/>
                </a:solidFill>
                <a:latin typeface="Tahoma"/>
                <a:cs typeface="Tahoma"/>
              </a:rPr>
              <a:t>การประเมินการสอน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467840" cy="114300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ff33"/>
                </a:solidFill>
                <a:latin typeface="Franklin Gothic Book"/>
              </a:rPr>
              <a:t>Good Practice </a:t>
            </a:r>
            <a:r>
              <a:rPr b="1" lang="th-TH" sz="4600" spc="-1" strike="noStrike">
                <a:solidFill>
                  <a:srgbClr val="99ff33"/>
                </a:solidFill>
                <a:latin typeface="Franklin Gothic Book"/>
              </a:rPr>
              <a:t>การประเมินการสอน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755280" y="1267920"/>
            <a:ext cx="7467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มีการประเมินหลังสิ้นสุดการสอนทันทีโดยให้เวลานักศึกษา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15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นาที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(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ท้ายชั่วโมง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ทั้งนี้มีการเตรียมความพร้อมของห้องคอมพิวเตอร์ และเครื่องคอมพิวเตอร์ สำหรับการประเมินการสอน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(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คณะพยาบาลศาสตร์  มหาวิทยาลัยขอนแก่น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มีการสร้างเครือข่ายยุวทูตประกันคุณภาพโดยคัดเลือกจากตัวแทนนักศึกษาให้มีหน้าที่ชี้แจง ประชาสัมพันธ์  และชักชวนเพื่อนๆนักศึกษา ให้ไปประเมินการสอนผ่านระบบออนไลน์  รวมทั้งอธิบายและชี้แจงขั้นตอนการประเมินแบบออนไลน์ผ่านเว็บไซต์ให้รับทราบโดยทั่วกัน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(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คณะวิศวกรรมศาสตร์  มหาวิทยาลัยขอนแก่น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มีการประชาสัมพันธ์ให้นักศึกษาเข้าไปประเมินการสอนออนไลน์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1.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ประชาสัมพันธ์ผ่านชองทางต่างๆ เช่น ตัวอาจารย์ผู้สอน และสำนักวิชาศึกษาทั่วไป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2.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ส่ง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E-mail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ไปยังนักศึกษาที่ยังไม่ได้ประเมินให้เข้ามาประเมินการสอน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(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ม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วลัยลักษณ์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99ff33"/>
                </a:solidFill>
                <a:latin typeface="Tahoma"/>
                <a:cs typeface="Tahoma"/>
              </a:rPr>
              <a:t>การตรวจประเมินคุณภาพภายใน</a:t>
            </a:r>
            <a:r>
              <a:rPr b="1" lang="th-TH" sz="3600" spc="-1" strike="noStrike">
                <a:solidFill>
                  <a:srgbClr val="99ff33"/>
                </a:solidFill>
                <a:latin typeface="Tahoma"/>
                <a:ea typeface="Tahoma"/>
              </a:rPr>
              <a:t>(</a:t>
            </a:r>
            <a:r>
              <a:rPr b="1" lang="en-US" sz="3600" spc="-1" strike="noStrike">
                <a:solidFill>
                  <a:srgbClr val="99ff33"/>
                </a:solidFill>
                <a:latin typeface="Tahoma"/>
                <a:ea typeface="Tahoma"/>
              </a:rPr>
              <a:t>IQA)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7c80"/>
                </a:solidFill>
                <a:latin typeface="Tahoma"/>
                <a:cs typeface="Tahoma"/>
              </a:rPr>
              <a:t>การตรวจประเมินคุณภาพภายใ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ดำเนินการทุกปีการศึกษ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ช่วงเดือน  กรกฎาคม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– 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สิงหาค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ตรวจระดับสถาบัน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, 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คณ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,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หน่วยงานสนับสนุ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7c80"/>
                </a:solidFill>
                <a:latin typeface="Tahoma"/>
                <a:cs typeface="Tahoma"/>
              </a:rPr>
              <a:t>ตัวชี้วัด</a:t>
            </a:r>
            <a:r>
              <a:rPr b="0" lang="th-TH" sz="2800" spc="-1" strike="noStrike">
                <a:solidFill>
                  <a:srgbClr val="ff7c80"/>
                </a:solidFill>
                <a:latin typeface="Tahoma"/>
                <a:ea typeface="Tahoma"/>
              </a:rPr>
              <a:t>(</a:t>
            </a:r>
            <a:r>
              <a:rPr b="0" lang="en-US" sz="2800" spc="-1" strike="noStrike">
                <a:solidFill>
                  <a:srgbClr val="ff7c80"/>
                </a:solidFill>
                <a:latin typeface="Tahoma"/>
                <a:ea typeface="Tahoma"/>
              </a:rPr>
              <a:t>KP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KPI 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สกอ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44 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ตัว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9 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องค์ประกอ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บูรณาการตัวชี้วัด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มข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.)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โดยนำเอาตัวชี้วัด สกอ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, 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สมศ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, 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กพร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, THES 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และตัวชี้วัดแผนของมหาวิทยาลั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กำหนดตัวชี้วัดที่สะท้อนอัตลักษณ์และบริบทของแต่ละคณะ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/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หน่วยงา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มีการปรับปรุงตัวชี้วัดทุกปีการศึกษาเพื่อให้เหมาะส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456840" y="1599840"/>
            <a:ext cx="82580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100" spc="-1" strike="noStrike">
                <a:solidFill>
                  <a:srgbClr val="ffffff"/>
                </a:solidFill>
                <a:latin typeface="Tahoma"/>
                <a:cs typeface="Tahoma"/>
              </a:rPr>
              <a:t>การนำผลการประเมินคุณภาพไปใช้ในการพัฒนาคุณภาพ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นำเสนอที่ประชุมกรรมการคณะ</a:t>
            </a:r>
            <a:r>
              <a:rPr b="0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/</a:t>
            </a:r>
            <a:r>
              <a:rPr b="0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กรรมการประกันคุณภาพ</a:t>
            </a:r>
            <a:r>
              <a:rPr b="0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/</a:t>
            </a:r>
            <a:r>
              <a:rPr b="0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ที่ประชุมคณบดี</a:t>
            </a:r>
            <a:r>
              <a:rPr b="0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/</a:t>
            </a:r>
            <a:r>
              <a:rPr b="0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ที่ประชุมสภามหาวิทยาลั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ระดมสมองเพื่อนำผลการประเมินไปใช้ในการพัฒนาคุณภาพอย่างต่อเนื่อ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มข</a:t>
            </a:r>
            <a:r>
              <a:rPr b="0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425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700" spc="-1" strike="noStrike">
                <a:solidFill>
                  <a:srgbClr val="ffffff"/>
                </a:solidFill>
                <a:latin typeface="Tahoma"/>
                <a:cs typeface="Tahoma"/>
              </a:rPr>
              <a:t>จัดทำประกาศมหาวิทยาลัยให้นำเอาผลการประเมินไปใช้ในการพัฒนาคุณภาพ</a:t>
            </a:r>
            <a:r>
              <a:rPr b="0" lang="en-US" sz="17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1700" spc="-1" strike="noStrike">
                <a:solidFill>
                  <a:srgbClr val="ffffff"/>
                </a:solidFill>
                <a:latin typeface="Tahoma"/>
                <a:ea typeface="Tahoma"/>
              </a:rPr>
              <a:t>(</a:t>
            </a:r>
            <a:r>
              <a:rPr b="0" lang="en-US" sz="1700" spc="-1" strike="noStrike">
                <a:solidFill>
                  <a:srgbClr val="ffffff"/>
                </a:solidFill>
                <a:latin typeface="Tahoma"/>
                <a:ea typeface="Tahoma"/>
              </a:rPr>
              <a:t>Action Plan OFI) </a:t>
            </a:r>
            <a:r>
              <a:rPr b="0" lang="th-TH" sz="1700" spc="-1" strike="noStrike">
                <a:solidFill>
                  <a:srgbClr val="ffffff"/>
                </a:solidFill>
                <a:latin typeface="Tahoma"/>
                <a:cs typeface="Tahoma"/>
              </a:rPr>
              <a:t>นำเสนอต่อมหาวิทยาลัย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425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700" spc="-1" strike="noStrike">
                <a:solidFill>
                  <a:srgbClr val="ffffff"/>
                </a:solidFill>
                <a:latin typeface="Tahoma"/>
                <a:cs typeface="Tahoma"/>
              </a:rPr>
              <a:t>ทุกคณะ</a:t>
            </a:r>
            <a:r>
              <a:rPr b="0" lang="th-TH" sz="1700" spc="-1" strike="noStrike">
                <a:solidFill>
                  <a:srgbClr val="ffffff"/>
                </a:solidFill>
                <a:latin typeface="Tahoma"/>
                <a:ea typeface="Tahoma"/>
              </a:rPr>
              <a:t>/</a:t>
            </a:r>
            <a:r>
              <a:rPr b="0" lang="th-TH" sz="1700" spc="-1" strike="noStrike">
                <a:solidFill>
                  <a:srgbClr val="ffffff"/>
                </a:solidFill>
                <a:latin typeface="Tahoma"/>
                <a:cs typeface="Tahoma"/>
              </a:rPr>
              <a:t>หน่วยงานจะต้องนำเสนอประเด็นที่คณะ</a:t>
            </a:r>
            <a:r>
              <a:rPr b="0" lang="th-TH" sz="1700" spc="-1" strike="noStrike">
                <a:solidFill>
                  <a:srgbClr val="ffffff"/>
                </a:solidFill>
                <a:latin typeface="Tahoma"/>
                <a:ea typeface="Tahoma"/>
              </a:rPr>
              <a:t>/</a:t>
            </a:r>
            <a:r>
              <a:rPr b="0" lang="th-TH" sz="1700" spc="-1" strike="noStrike">
                <a:solidFill>
                  <a:srgbClr val="ffffff"/>
                </a:solidFill>
                <a:latin typeface="Tahoma"/>
                <a:cs typeface="Tahoma"/>
              </a:rPr>
              <a:t>หน่วยงานได้นำผลการประเมินไปใช้ในการพัฒนาคุณภาพอย่างต่อเนื่องรวมทั้งพัฒนาการของคณะ</a:t>
            </a:r>
            <a:r>
              <a:rPr b="0" lang="th-TH" sz="1700" spc="-1" strike="noStrike">
                <a:solidFill>
                  <a:srgbClr val="ffffff"/>
                </a:solidFill>
                <a:latin typeface="Tahoma"/>
                <a:ea typeface="Tahoma"/>
              </a:rPr>
              <a:t>/</a:t>
            </a:r>
            <a:r>
              <a:rPr b="0" lang="th-TH" sz="1700" spc="-1" strike="noStrike">
                <a:solidFill>
                  <a:srgbClr val="ffffff"/>
                </a:solidFill>
                <a:latin typeface="Tahoma"/>
                <a:cs typeface="Tahoma"/>
              </a:rPr>
              <a:t>หน่วยงานในรอบปีที่ผ่านมา นำเสนอต่อคณะกรรมการตรวจประเมินคุณภาพภายในของมหาวิทยาลัย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425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700" spc="-1" strike="noStrike">
                <a:solidFill>
                  <a:srgbClr val="ffffff"/>
                </a:solidFill>
                <a:latin typeface="Tahoma"/>
                <a:cs typeface="Tahoma"/>
              </a:rPr>
              <a:t>ผลการตรวจประเมินคุณภาพภายใน</a:t>
            </a:r>
            <a:r>
              <a:rPr b="0" lang="th-TH" sz="1700" spc="-1" strike="noStrike">
                <a:solidFill>
                  <a:srgbClr val="ffffff"/>
                </a:solidFill>
                <a:latin typeface="Tahoma"/>
                <a:ea typeface="Tahoma"/>
              </a:rPr>
              <a:t>(</a:t>
            </a:r>
            <a:r>
              <a:rPr b="0" lang="en-US" sz="1700" spc="-1" strike="noStrike">
                <a:solidFill>
                  <a:srgbClr val="ffffff"/>
                </a:solidFill>
                <a:latin typeface="Tahoma"/>
                <a:ea typeface="Tahoma"/>
              </a:rPr>
              <a:t>IQA) </a:t>
            </a:r>
            <a:r>
              <a:rPr b="0" lang="th-TH" sz="1700" spc="-1" strike="noStrike">
                <a:solidFill>
                  <a:srgbClr val="ffffff"/>
                </a:solidFill>
                <a:latin typeface="Tahoma"/>
                <a:cs typeface="Tahoma"/>
              </a:rPr>
              <a:t>นำไปเชื่อมโยงกับคำรับรองการปฏิบัติราชการและการประเมินผลการดำเนินงานของผู้บริหารระดับสูง  ทำให้เกิดการบูรณาการเชื่อมโยงผลการดำเนินงานกับการประเมินคุณภาพ</a:t>
            </a:r>
            <a:r>
              <a:rPr b="0" lang="th-TH" sz="1700" spc="-1" strike="noStrike">
                <a:solidFill>
                  <a:srgbClr val="ffffff"/>
                </a:solidFill>
                <a:latin typeface="Tahoma"/>
                <a:ea typeface="Tahoma"/>
              </a:rPr>
              <a:t>(</a:t>
            </a:r>
            <a:r>
              <a:rPr b="0" lang="th-TH" sz="1700" spc="-1" strike="noStrike">
                <a:solidFill>
                  <a:srgbClr val="ffffff"/>
                </a:solidFill>
                <a:latin typeface="Tahoma"/>
                <a:cs typeface="Tahoma"/>
              </a:rPr>
              <a:t>สร้างวัฒนธรรมการประเมินคุณภาพ</a:t>
            </a:r>
            <a:r>
              <a:rPr b="0" lang="th-TH" sz="17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1.</a:t>
            </a:r>
            <a:r>
              <a:rPr b="0" lang="th-TH" sz="1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ffffff"/>
                </a:solidFill>
                <a:latin typeface="Tahoma"/>
                <a:cs typeface="Tahoma"/>
              </a:rPr>
              <a:t>สิ้นสุดกระบวนการตรวจประเมิน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2. </a:t>
            </a:r>
            <a:r>
              <a:rPr b="0" lang="th-TH" sz="1400" spc="-1" strike="noStrike">
                <a:solidFill>
                  <a:srgbClr val="ffffff"/>
                </a:solidFill>
                <a:latin typeface="Tahoma"/>
                <a:cs typeface="Tahoma"/>
              </a:rPr>
              <a:t>มีการค้นหา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good pract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3. </a:t>
            </a:r>
            <a:r>
              <a:rPr b="0" lang="th-TH" sz="1400" spc="-1" strike="noStrike">
                <a:solidFill>
                  <a:srgbClr val="ffffff"/>
                </a:solidFill>
                <a:latin typeface="Tahoma"/>
                <a:cs typeface="Tahoma"/>
              </a:rPr>
              <a:t>มีการปรับแผนปฏิบัติการ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4. </a:t>
            </a:r>
            <a:r>
              <a:rPr b="0" lang="th-TH" sz="1400" spc="-1" strike="noStrike">
                <a:solidFill>
                  <a:srgbClr val="ffffff"/>
                </a:solidFill>
                <a:latin typeface="Tahoma"/>
                <a:cs typeface="Tahoma"/>
              </a:rPr>
              <a:t>จัดงาน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Show&amp;share, K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14300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900" spc="-1" strike="noStrike">
                <a:solidFill>
                  <a:srgbClr val="99ff33"/>
                </a:solidFill>
                <a:latin typeface="Tahoma"/>
                <a:cs typeface="Tahoma"/>
              </a:rPr>
              <a:t>การตรวจประเมินคุณภาพภายใน</a:t>
            </a:r>
            <a:r>
              <a:rPr b="1" lang="th-TH" sz="3900" spc="-1" strike="noStrike">
                <a:solidFill>
                  <a:srgbClr val="99ff33"/>
                </a:solidFill>
                <a:latin typeface="Tahoma"/>
                <a:ea typeface="Tahoma"/>
              </a:rPr>
              <a:t>(</a:t>
            </a:r>
            <a:r>
              <a:rPr b="1" lang="en-US" sz="3900" spc="-1" strike="noStrike">
                <a:solidFill>
                  <a:srgbClr val="99ff33"/>
                </a:solidFill>
                <a:latin typeface="Tahoma"/>
                <a:ea typeface="Tahoma"/>
              </a:rPr>
              <a:t>IQA)</a:t>
            </a:r>
            <a:endParaRPr b="0" lang="en-US" sz="39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7:41:26Z</dcterms:created>
  <dc:creator>MoZarD</dc:creator>
  <dc:description/>
  <dc:language>en-US</dc:language>
  <cp:lastModifiedBy>plan division kku</cp:lastModifiedBy>
  <dcterms:modified xsi:type="dcterms:W3CDTF">2010-03-22T10:12:50Z</dcterms:modified>
  <cp:revision>32</cp:revision>
  <dc:subject/>
  <dc:title>กลุ่ม 5 การประเมินและติดตามผลการจัดการศึกษา </dc:title>
</cp:coreProperties>
</file>